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6.wmf" ContentType="image/x-wmf"/>
  <Override PartName="/ppt/media/image15.wmf" ContentType="image/x-wmf"/>
  <Override PartName="/ppt/media/image14.wmf" ContentType="image/x-wmf"/>
  <Override PartName="/ppt/media/image9.wmf" ContentType="image/x-wmf"/>
  <Override PartName="/ppt/media/image1.png" ContentType="image/png"/>
  <Override PartName="/ppt/media/image6.jpeg" ContentType="image/jpe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13.wmf" ContentType="image/x-wmf"/>
  <Override PartName="/ppt/media/image5.png" ContentType="image/png"/>
  <Override PartName="/ppt/media/image10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6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7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8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A6BE00-69A0-4475-B7AF-365D361B7F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84456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84456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84456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84456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84456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356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844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356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844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CDDA9C-1282-4138-A1F0-C675B9F06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4212F5-A9D2-4EA3-B057-BFEF014B5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B6F1DE-5286-4C9B-94DC-02459C741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32D876-6BE9-4ABA-9C39-EE140AF71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7804EA-47E7-4D26-871E-A2FCD7B91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280"/>
            <a:ext cx="86360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D5B050-BE6B-4A37-9B0C-E29682E13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FDB6B6-805F-4A97-94AC-D46C2AA6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D14325-E0E0-4650-BC07-BADF22BE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F58B00-4E3B-4917-92A9-1BAA593BF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69B159-FDEF-424B-AFAE-3EC201911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1DCD7C-B25F-4B61-82F8-23FDD7615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356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844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356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844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F82521-6CFB-4BFD-89ED-23423E49D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280"/>
            <a:ext cx="86360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320" y="634356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200" spc="-1" strike="noStrike">
                <a:solidFill>
                  <a:srgbClr val="cc99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3B6A86F-612F-4CB3-821B-6357815406D8}" type="slidenum">
              <a:rPr b="0" lang="en-US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46160" y="6357960"/>
            <a:ext cx="19047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161280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3"/>
          </p:nvPr>
        </p:nvSpPr>
        <p:spPr>
          <a:xfrm>
            <a:off x="3358800" y="634356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4"/>
          </p:nvPr>
        </p:nvSpPr>
        <p:spPr>
          <a:xfrm>
            <a:off x="6019560" y="634356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125280" y="6357960"/>
            <a:ext cx="19036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A8A3997-2EEE-4E65-8C64-EA00553636B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160360" y="5056200"/>
            <a:ext cx="618948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67320" bIns="46080" anchor="t">
            <a:noAutofit/>
          </a:bodyPr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Item III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Zoran Bohaček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28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. V</a:t>
            </a: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2010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82720" y="1341360"/>
            <a:ext cx="7378560" cy="15382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-324360" y="3239640"/>
            <a:ext cx="62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972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Arial"/>
              </a:rPr>
              <a:t>Croatia</a:t>
            </a:r>
            <a:endParaRPr b="0" lang="en-US" sz="6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17160" y="610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, what did the CBA do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60000" y="1955880"/>
            <a:ext cx="8209080" cy="41637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 fontScale="99000"/>
          </a:bodyPr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xtremely active role (continued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xtensive media coverage (reduced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ost questions to banks ended up with us - coordinating respons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BA “vademecum” since February 2009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ublished analyses, outlook, viewpoint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o far, maintained positive ro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n addition, coordination of CRD, PSD, CCD transposition and many more...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17160" y="764640"/>
            <a:ext cx="8637480" cy="67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BA in Media (from January 1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8680" y="1436760"/>
            <a:ext cx="820872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8000"/>
          </a:bodyPr>
          <a:p>
            <a:pPr marL="33444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4440" indent="-33444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ewspapers 131 - “value” close to €240K (2009-534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4440" indent="-33444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V 21 presences - “value” above €500K (2009-132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4440" indent="-33444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adio 22, additional web portal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4440" indent="-33444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edia classification – 98% “neutral”, 2% “positive”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328680" y="1985760"/>
            <a:ext cx="820872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Arial"/>
              </a:rPr>
              <a:t>Seems we survived the first wave........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Arial"/>
              </a:rPr>
              <a:t>Good luck and thank you!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2120" y="37944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Real GDP growth rate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1844640"/>
            <a:ext cx="3959280" cy="36828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oati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716360" y="1844640"/>
            <a:ext cx="3959280" cy="36828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eer countri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716360" y="5157720"/>
            <a:ext cx="396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a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verage 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annual growth 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rate, 199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9 – 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200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Sources: Eurostat, CNB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, national statistical offic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5157720"/>
            <a:ext cx="396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The data until 2006 are harmonised with final annual calculation of the GDP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NB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57200" y="2611440"/>
            <a:ext cx="4038480" cy="25066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648320" y="2610000"/>
            <a:ext cx="4038480" cy="25095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987480"/>
            <a:ext cx="3780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Banks' loan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72880" y="5219640"/>
            <a:ext cx="206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year-on-year rate of chan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87280" y="2422440"/>
            <a:ext cx="4175280" cy="25844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859280" y="2411280"/>
            <a:ext cx="3959280" cy="2605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040360" y="988920"/>
            <a:ext cx="38624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Average lending interest rat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98920" y="5400720"/>
            <a:ext cx="216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NB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60000" y="1068120"/>
            <a:ext cx="3598920" cy="15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Current account deficit and FDI inflows in Croatia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93760" y="2987640"/>
            <a:ext cx="4043160" cy="2519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680000" y="3005280"/>
            <a:ext cx="3924360" cy="24858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632480" y="1438200"/>
            <a:ext cx="4187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External debt by debto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82920" y="5400720"/>
            <a:ext cx="21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NB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60360" y="590040"/>
            <a:ext cx="382752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Total assets of all bank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60360" y="2340000"/>
            <a:ext cx="4016520" cy="25192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4788000" y="2340000"/>
            <a:ext cx="3992400" cy="2519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680000" y="1035000"/>
            <a:ext cx="4367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Capital adequacy of bank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88000" y="5075280"/>
            <a:ext cx="4103640" cy="30708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regulatory capital</a:t>
            </a:r>
            <a:r>
              <a:rPr b="0" lang="hr-HR" sz="14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total exposure to risk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419640" y="5478480"/>
            <a:ext cx="216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NB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59880" y="723960"/>
            <a:ext cx="30783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RO</a:t>
            </a:r>
            <a:r>
              <a:rPr b="0" lang="hr-HR" sz="3200" spc="-1" strike="noStrike">
                <a:solidFill>
                  <a:srgbClr val="ffcc00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A and RO</a:t>
            </a:r>
            <a:r>
              <a:rPr b="0" lang="hr-HR" sz="3200" spc="-1" strike="noStrike">
                <a:solidFill>
                  <a:srgbClr val="ffcc00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E</a:t>
            </a:r>
            <a:r>
              <a:rPr b="0" lang="hr-HR" sz="3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30120" y="2421000"/>
            <a:ext cx="4168800" cy="25844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4726080" y="2441520"/>
            <a:ext cx="4093920" cy="25434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319640" y="1106640"/>
            <a:ext cx="47275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assification of placements</a:t>
            </a:r>
            <a:r>
              <a:rPr b="0" lang="hr-HR" sz="32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nd contingent liabiliti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64000" y="5400720"/>
            <a:ext cx="216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NB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7160" y="151920"/>
            <a:ext cx="863748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, what did the monetary authorities do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8680" y="1796760"/>
            <a:ext cx="8208720" cy="465300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 fontScale="99000"/>
          </a:bodyPr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End 2008 – relaxed some constraints to increase liquidity – 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targeted to public sector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Early 2009 – increased regulatory burden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Controlled exchange rate and liquidity on open market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Declared that exchange rate stability is priority, opening pressures on interest rates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Early 2010 – further relaxation of reserve requirement – targeted to increase credit availability through government plans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Maintained stable exchange rate and low inflation in spite of the pressures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Continuously called on structural reforms and fiscal response to monetary moves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, what did the government do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60000" y="1800000"/>
            <a:ext cx="82090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Calls on government since October 2008 to make decisive move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Recognized recession 6 months later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nnounced 10 “Anti-Recession Measures”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Rebalanced the budget 3 times – from March to July 2009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ntroduced “crisis tax” and increased VAT by 1%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Country rating slightly decreased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ssued 750 mill € bonds in May 2009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ssued 1,5 bill $ bonds in October 2009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End 2009 – announced several models to increase lending/decrease interest rate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pril 2010 – announced a complete, hopefully more concrete plan to make necessary reforms and fiscal adjustment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17160" y="549360"/>
            <a:ext cx="86374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, what did the banks do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920" y="2087640"/>
            <a:ext cx="8208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99000"/>
          </a:bodyPr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Unlike some other countries – banks helped bail out the government – 2,8 bln €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No squeezing out of private secto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Maintained reasonable credit activit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yndicated loan to government – 750 mill €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Raised interest rat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33680" indent="-281160">
              <a:lnSpc>
                <a:spcPct val="93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ncreased price (due to risk) on international market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33680" indent="-281160">
              <a:lnSpc>
                <a:spcPct val="93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ncreased competition on domestic marke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uccessfully avoided financial crisis, but risks lie in real secto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2T11:39:33Z</dcterms:created>
  <dc:creator>Zoran Bohaček</dc:creator>
  <dc:description/>
  <dc:language>en-US</dc:language>
  <cp:lastModifiedBy>Zoran Bohacek</cp:lastModifiedBy>
  <cp:lastPrinted>2009-06-16T13:41:08Z</cp:lastPrinted>
  <dcterms:modified xsi:type="dcterms:W3CDTF">2010-05-26T10:22:12Z</dcterms:modified>
  <cp:revision>75</cp:revision>
  <dc:subject/>
  <dc:title>KREDITNI REGISTAR KAO INSTITUCIJA RAZVIJENOG FINANCIJSKOG TRŽIŠ</dc:title>
</cp:coreProperties>
</file>